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BFA4-9173-4420-B207-A44715D3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219-30B8-434C-8C04-39023EC9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1EE-8B77-41A8-A01A-59AABBA5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059-22AA-459F-AF86-518D74C4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83F-6AFD-4ED7-B21E-2E4987F4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3AB-8727-4C8B-A4BD-2842AE7D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9DA-3BB1-4460-B30E-B9A8879A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384-4949-4C6A-B8CD-BA5121FF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088-DDC9-4764-85C3-55685172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1D36-3877-48AC-B6FC-D8E9BEF3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D09-3CE5-4DE5-B88B-03B9BFD7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EDC-DD6D-4BC4-80B8-4D138577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7239-BFC8-4F41-B44A-ABDDE412716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304920" y="1089000"/>
            <a:ext cx="8532720" cy="550872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059280" y="3033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078000" y="371628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081240" y="440208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3081240" y="5076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100320" y="5786280"/>
            <a:ext cx="259236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439560" y="303696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58640" y="371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461880" y="44053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461880" y="507996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480960" y="578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384120" y="1052640"/>
            <a:ext cx="8542440" cy="1388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234936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اعتراف بنعم الله والمحافظة عليه وعدم الكفر 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9360" y="1484280"/>
            <a:ext cx="85834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1" name="عنوان 1"/>
          <p:cNvSpPr/>
          <p:nvPr/>
        </p:nvSpPr>
        <p:spPr>
          <a:xfrm>
            <a:off x="324000" y="53830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رية داوود عليه 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3492360" y="981000"/>
            <a:ext cx="5384880" cy="546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4"/>
          <a:stretch/>
        </p:blipFill>
        <p:spPr>
          <a:xfrm>
            <a:off x="3441600" y="2708280"/>
            <a:ext cx="5486400" cy="546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5"/>
          <a:stretch/>
        </p:blipFill>
        <p:spPr>
          <a:xfrm>
            <a:off x="687240" y="4221000"/>
            <a:ext cx="8240760" cy="10544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324000" y="3284640"/>
            <a:ext cx="856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لح في الدنيا ولا في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324000" y="16286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آمن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ير الرزق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ل الرسل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ليل الحلال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جواز الأكل مما حرمه الله عند الضرورة لدفع الموت بغير ظلم ولا زيادة عن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73"/>
          <a:stretch/>
        </p:blipFill>
        <p:spPr>
          <a:xfrm>
            <a:off x="324000" y="1916280"/>
            <a:ext cx="853416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58960" y="4581360"/>
            <a:ext cx="3784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50920" y="1065240"/>
            <a:ext cx="86421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53240" cy="468144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95280" y="42530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ذبح على غير اسم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479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حتاج إ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0" y="981000"/>
            <a:ext cx="912636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125360"/>
            <a:ext cx="41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ذيب الله سبحانه لمن كذب برس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3737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ظا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حد الضرو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فر بنعم الله عز وجل وإنكار النبو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حلال الطيب والبعد عن الخبيث المحر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فظ النعم يكو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شكر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شك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عتراف بها في القلب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ناء على الله باللسا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صرفها في طاعة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تة والدم المسفو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87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ستثنى من تحريم الميت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سمك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جر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50920" y="50022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لحم الخنزير وشحمه وعظامه وكل الأطعمة التي فيها شيء من مكونات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550692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ص اللحم بالذكر ما أن التحريم على كل الخنز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سبيل التغل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60102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ذبح لغي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محرمات عند الضرورة لدفع المو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حليل والتحريم بغير دليل شرعي ظاه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ذب ع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قوبة الكذب ع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فلح في الدنيا ولا في 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250920" y="1700280"/>
            <a:ext cx="86295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تحريم التحليل والتحريم بغير دليل شرعي ظاهر وحرمة الكذب على الله وأن الكاذب لا يفلح في الدنيا ولا في الا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539640" y="1031760"/>
            <a:ext cx="84139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6T21:21:47Z</dcterms:modified>
  <cp:revision>1940</cp:revision>
  <dc:subject/>
  <dc:title>عرض تقديمي في PowerPoint</dc:title>
</cp:coreProperties>
</file>